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EE6-66F6-4F76-ADB0-3AC57B6A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661-1C6A-4054-AE8B-01AB69EC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DDB-30C9-4B13-80F7-BCD4C67F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E0A-8CFA-4DB5-A5B1-65C27179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4673-F2A2-4E6D-8049-77D09263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269E-8904-418F-A0BF-088A9505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5D58-2888-49A3-8E51-EA2F85DE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2B1D-CF73-4351-BA2B-3514D581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B399-8C46-443D-8E6C-A3F4A69D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B0B7-3D17-4E81-828E-7A0C85A6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6C25-D865-4C6B-9BA0-2D9C8A30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CF6-EA0F-4D03-A0BF-D6B04C1C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9A37-1536-41A0-A1CD-2D57F090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3C2D-1571-4A91-86F9-72742CBD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B485-0967-4FC7-846F-03E9529D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D9B3-129B-4B9E-AA46-29623E9E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1901-A6CD-48AB-84CA-F117524D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7DB-7DA6-438E-8B0C-6EC77665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504E-1480-4DF1-B23A-DA5AF04C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E8A-EB42-4C4F-95E8-F09BDA6A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989-6673-4A3C-8209-FC649A2A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404-76F2-49A4-803C-763F94BB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94AE-4FCC-49AF-9FBD-43555D5B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EA1-BB54-40A4-B8C6-030974C7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2653-B663-4A02-BA3D-D733CFAC656F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525A-F4CD-4ED9-8FBD-0268B66C4000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ecff"/>
                </a:solidFill>
                <a:latin typeface="Arial"/>
              </a:rPr>
              <a:t>ALTE ROMANE  REALISTE INTERBELIC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11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44792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ffffff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9T10:53:49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